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C02-22F8-4619-BF90-40A0F01B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4DF-D436-40C9-A554-2A486E3B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5E2-F052-40B1-8FF1-D0A3BA81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E6B-43D2-49F8-877B-3680B123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49B-8C69-4ABA-A56E-5480E29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AE8-E107-49B0-BCED-2DC7DC8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93F-F2A5-4D34-8757-92C76E39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C63-C3AA-45A0-B1BA-CBBF968C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C7D-12F7-481D-BD09-F26460B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0B3-0516-47A2-A238-DCC2E29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6E9-47F4-4A99-8B04-3010117A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208-E9C3-4EA7-B947-B669E63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2F9D-B8DF-4EBA-A7FE-5F5D51CFC0AA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07.imageshack.us/img107/2915/hardstylemafialogolj2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21949954qu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1052640"/>
            <a:ext cx="248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H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My name is la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Im 1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I love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72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love most of all Hardsty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Se billede i fuld størrel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4797360"/>
            <a:ext cx="2951280" cy="129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0065800">
            <a:off x="5580360" y="32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>
                <a:solidFill>
                  <a:srgbClr val="ff0000"/>
                </a:solidFill>
                <a:latin typeface="Eras Bold ITC"/>
              </a:rPr>
              <a:t>I love hardstyle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715400">
            <a:off x="2701440" y="3357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>
                <a:solidFill>
                  <a:srgbClr val="ff0000"/>
                </a:solidFill>
                <a:latin typeface="Arial"/>
              </a:rPr>
              <a:t>I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da-DK" sz="1800" spc="-1" strike="noStrike">
                <a:solidFill>
                  <a:srgbClr val="ff0000"/>
                </a:solidFill>
                <a:latin typeface="Arial"/>
              </a:rPr>
              <a:t>h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8640"/>
            <a:ext cx="7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995640" y="2997360"/>
            <a:ext cx="1440000" cy="1339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35640" y="1628640"/>
            <a:ext cx="172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0000"/>
                </a:solidFill>
                <a:latin typeface="Baskerville Old Face"/>
              </a:rPr>
              <a:t>And i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0000"/>
                </a:solidFill>
                <a:latin typeface="Baskerville Old Face"/>
              </a:rPr>
              <a:t>To be whit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0000"/>
                </a:solidFill>
                <a:latin typeface="Baskerville Old Face"/>
              </a:rPr>
              <a:t>Freinds :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72360" y="328464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Arial"/>
              </a:rPr>
              <a:t>I go in 7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18:25Z</dcterms:created>
  <dc:creator>02a8</dc:creator>
  <dc:description/>
  <dc:language>en-US</dc:language>
  <cp:lastModifiedBy>02a8</cp:lastModifiedBy>
  <dcterms:modified xsi:type="dcterms:W3CDTF">2010-02-09T09:48:20Z</dcterms:modified>
  <cp:revision>2</cp:revision>
  <dc:subject/>
  <dc:title>Dias nummer 1</dc:title>
</cp:coreProperties>
</file>